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D39-7A14-4611-B7C9-37C631AF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8D2-BFB4-4C36-B53D-13D78F83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71A-96DD-47BA-BD9C-D0B546BB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955-2726-4566-A97B-A78B3978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49E-1AC0-407C-8DC8-C94AC692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479-C1EC-45E9-87C3-B5F96D8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38C-5FB5-4633-807B-EC46419C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04E-0C34-4A20-974A-30EE431E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562-B41C-4B79-AC5E-63425297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76E-74CE-4215-A7F2-053E5A4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412-3B7D-46F6-A5FC-9969329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9D3-F903-4CA1-AF08-1108C06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C04-35AF-4BF4-B297-67D792DB54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2565360"/>
            <a:ext cx="8282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Broadway"/>
              </a:rPr>
              <a:t>The Opening Ceremony Prob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Broadway"/>
              <a:ea typeface="Broadway"/>
            </a:endParaRPr>
          </a:p>
        </p:txBody>
      </p:sp>
      <p:pic>
        <p:nvPicPr>
          <p:cNvPr id="42" name="Picture 6" descr="Olympic%20ring-shaped%20bicycle%5B2%5D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london2012"/>
          <p:cNvPicPr/>
          <p:nvPr/>
        </p:nvPicPr>
        <p:blipFill>
          <a:blip r:embed="rId2"/>
          <a:stretch/>
        </p:blipFill>
        <p:spPr>
          <a:xfrm>
            <a:off x="5334120" y="432432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london_olympic_2012_village"/>
          <p:cNvPicPr/>
          <p:nvPr/>
        </p:nvPicPr>
        <p:blipFill>
          <a:blip r:embed="rId3"/>
          <a:stretch/>
        </p:blipFill>
        <p:spPr>
          <a:xfrm>
            <a:off x="0" y="0"/>
            <a:ext cx="17859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OlympicsLogosDM_1000x1133"/>
          <p:cNvPicPr/>
          <p:nvPr/>
        </p:nvPicPr>
        <p:blipFill>
          <a:blip r:embed="rId4"/>
          <a:stretch/>
        </p:blipFill>
        <p:spPr>
          <a:xfrm>
            <a:off x="0" y="3357720"/>
            <a:ext cx="3090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700360" y="404640"/>
            <a:ext cx="32400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90 x 70= 6300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Picture 8" descr="pi"/>
          <p:cNvPicPr/>
          <p:nvPr/>
        </p:nvPicPr>
        <p:blipFill>
          <a:blip r:embed="rId1"/>
          <a:stretch/>
        </p:blipFill>
        <p:spPr>
          <a:xfrm>
            <a:off x="2987640" y="14130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3562200" y="1484280"/>
            <a:ext cx="561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 3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4138560" y="1339920"/>
            <a:ext cx="1238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4425840" y="1486080"/>
            <a:ext cx="1143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=3848.4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403280" y="2133720"/>
            <a:ext cx="5976720" cy="718920"/>
            <a:chOff x="1403280" y="2133720"/>
            <a:chExt cx="5976720" cy="718920"/>
          </a:xfrm>
        </p:grpSpPr>
        <p:sp>
          <p:nvSpPr>
            <p:cNvPr id="52" name="WordArt 13"/>
            <p:cNvSpPr txBox="1"/>
            <p:nvPr/>
          </p:nvSpPr>
          <p:spPr>
            <a:xfrm>
              <a:off x="3132000" y="2276640"/>
              <a:ext cx="4248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6300+ 3848.451001=10148.451(m2)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3" name="WordArt 14"/>
            <p:cNvSpPr txBox="1"/>
            <p:nvPr/>
          </p:nvSpPr>
          <p:spPr>
            <a:xfrm>
              <a:off x="1403280" y="2133720"/>
              <a:ext cx="11142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area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>
              <a:off x="2628720" y="2494080"/>
              <a:ext cx="28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0"/>
          <p:cNvGrpSpPr/>
          <p:nvPr/>
        </p:nvGrpSpPr>
        <p:grpSpPr>
          <a:xfrm>
            <a:off x="1763640" y="3068640"/>
            <a:ext cx="5264280" cy="719280"/>
            <a:chOff x="1763640" y="3068640"/>
            <a:chExt cx="5264280" cy="719280"/>
          </a:xfrm>
        </p:grpSpPr>
        <p:sp>
          <p:nvSpPr>
            <p:cNvPr id="56" name="WordArt 16"/>
            <p:cNvSpPr txBox="1"/>
            <p:nvPr/>
          </p:nvSpPr>
          <p:spPr>
            <a:xfrm>
              <a:off x="1763640" y="3139920"/>
              <a:ext cx="50198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4 people per metre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7" name="WordArt 17"/>
            <p:cNvSpPr txBox="1"/>
            <p:nvPr/>
          </p:nvSpPr>
          <p:spPr>
            <a:xfrm>
              <a:off x="6875640" y="3068640"/>
              <a:ext cx="1522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8" name="Group 23"/>
          <p:cNvGrpSpPr/>
          <p:nvPr/>
        </p:nvGrpSpPr>
        <p:grpSpPr>
          <a:xfrm>
            <a:off x="395280" y="5229360"/>
            <a:ext cx="8478720" cy="647640"/>
            <a:chOff x="395280" y="5229360"/>
            <a:chExt cx="8478720" cy="647640"/>
          </a:xfrm>
        </p:grpSpPr>
        <p:sp>
          <p:nvSpPr>
            <p:cNvPr id="59" name="WordArt 21"/>
            <p:cNvSpPr txBox="1"/>
            <p:nvPr/>
          </p:nvSpPr>
          <p:spPr>
            <a:xfrm>
              <a:off x="395280" y="5229360"/>
              <a:ext cx="655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10148.451 x 4 =40592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0" name="WordArt 22"/>
            <p:cNvSpPr txBox="1"/>
            <p:nvPr/>
          </p:nvSpPr>
          <p:spPr>
            <a:xfrm>
              <a:off x="7092720" y="5373720"/>
              <a:ext cx="17812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(rounded up)</a:t>
              </a:r>
              <a:endParaRPr b="0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1" name="WordArt 24"/>
          <p:cNvSpPr txBox="1"/>
          <p:nvPr/>
        </p:nvSpPr>
        <p:spPr>
          <a:xfrm>
            <a:off x="3492360" y="4149720"/>
            <a:ext cx="18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=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23:03Z</dcterms:created>
  <dc:creator>tetlowg</dc:creator>
  <dc:description/>
  <dc:language>en-US</dc:language>
  <cp:lastModifiedBy> </cp:lastModifiedBy>
  <dcterms:modified xsi:type="dcterms:W3CDTF">2010-12-02T14:21:04Z</dcterms:modified>
  <cp:revision>5</cp:revision>
  <dc:subject/>
  <dc:title>Slide 1</dc:title>
</cp:coreProperties>
</file>